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858A-C25B-4605-8996-B187A283B3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251E-0A68-49F9-825D-D9E806CD7D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2105-064B-4628-AE80-5765E9EB4E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81B7-13F6-438B-AC10-5DF092BC2D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DBD6-2115-4EC3-AA74-2DE42B4C01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531E-E055-4002-97CB-A46B7A6C1C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1B1C-F50C-4B86-999F-A81130385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E702-C9F3-4913-8B5C-01B35B62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CBF8-1A80-4BB3-8CA5-2804F57BB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2AAC-3CA0-4C86-9646-050E61480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599C-0C9E-4CB5-9324-BAABFE281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292E-24FF-4641-862B-B9B89EE0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EE87-AA33-4155-8809-09A4CC8E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0358-0FB5-4A56-96A7-12761359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AB81-8A2D-4A41-9B6A-F880F174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2E98-5731-4D2F-BE0D-F4097B28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084C-0263-41C3-A536-242BF995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ADB8-66B5-48C1-A505-FFB549B9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26D4-4A90-40A5-8BA5-33BA8914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2F96-8138-43D0-8C30-5FB3545B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603B-2255-4ACD-8C35-6370617D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AB46-BCA2-40FF-AA85-9BACB60A8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2C46-B6ED-4231-AB36-503625660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2713-D930-4543-B296-848B2023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DB97-DE80-41E3-9D6A-8E6ECBC9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B960-124E-4EA9-A422-96DF5EE9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BB48-268D-4E4C-9705-803DA7EA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E174-6DA2-4FED-B4CE-25842603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3D58-5AD3-4319-A2CD-071E179D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04C8-2543-4A28-A6A8-249DA540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CB4A-EAC2-4676-B703-E7D445DD30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F6C0-8283-4856-A731-20F1D8E61E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медикаментозное ле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инезитерапия (лечебная гимнастик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сса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изиотерап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3"/>
          <p:cNvSpPr/>
          <p:nvPr/>
        </p:nvSpPr>
        <p:spPr>
          <a:xfrm>
            <a:off x="547560" y="836640"/>
            <a:ext cx="8064720" cy="43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пражнения не должны вызывать сильной усталости. Они должны быть адекватны возможностям конкретного больно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 упражнения выполняются в умеренном или медленном темпе, плав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выполнения упражнения должны быть паузы с полным расслаблением мышц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 время выполнения упражнений не должно задерживаться дыха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900000" y="190440"/>
            <a:ext cx="771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сновные принципы лечебной гимнастики (1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2"/>
          <p:cNvSpPr/>
          <p:nvPr/>
        </p:nvSpPr>
        <p:spPr>
          <a:xfrm>
            <a:off x="396720" y="836640"/>
            <a:ext cx="8209080" cy="56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ительность одного занятия не должна превышать 10-15 минут. В течение дня может быть несколько занят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плекс составлен по принципу рассеянной нагруз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пражнения подбираются индивидуально. Количество упражнений в одном занятии не  должно превышать 6-8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пражнения следует соотносить с самочувствием в данный момент. При необходимости  исключать трудные упражнения, чаще выполнять упражнения на расслабл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4"/>
          <p:cNvSpPr/>
          <p:nvPr/>
        </p:nvSpPr>
        <p:spPr>
          <a:xfrm>
            <a:off x="900000" y="190440"/>
            <a:ext cx="771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сновные принципы лечебной гимнастики (2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зиотерап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ппараты для нейромышечной электростимуля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нистим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mron 4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убош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CC3C-D4F8-44A3-8E50-E5BB161646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8390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РОССИЙСКАЯ АКАДЕМИЯ НАУК</a:t>
            </a:r>
            <a:br>
              <a:rPr sz="16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УЧНО-ТЕХНОЛОГИЧЕСКИЙ ЦЕНТР УНИКАЛЬНОГО ПРИБОРОСТРОЕНИЯ</a:t>
            </a:r>
            <a:br>
              <a:rPr sz="14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(НТЦ УП РАН)</a:t>
            </a:r>
            <a:br>
              <a:rPr sz="16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Лаборатория биомедицинских  приборов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Рук. - к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нд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б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ол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ук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манский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алерий Львович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17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342, Москва, ул. Бутлерова, д.15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л +7903174 0990 тел/факс (495) 333 44 04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il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abmp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@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il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u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br>
              <a:rPr sz="1600"/>
            </a:br>
            <a:br>
              <a:rPr sz="3900"/>
            </a:br>
            <a:br>
              <a:rPr sz="1800"/>
            </a:br>
            <a:br>
              <a:rPr sz="25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6840" y="22860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30000"/>
              </a:lnSpc>
              <a:spcBef>
                <a:spcPts val="2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f497d"/>
                </a:solidFill>
                <a:latin typeface="Calibri"/>
              </a:rPr>
              <a:t>Электростимулятор полипрограммный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3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ЭНИСТИМ-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3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ЦЕНА 5 400 РУ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3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30000"/>
              </a:lnSpc>
              <a:spcBef>
                <a:spcPts val="2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30000"/>
              </a:lnSpc>
              <a:spcBef>
                <a:spcPts val="2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30000"/>
              </a:lnSpc>
              <a:spcBef>
                <a:spcPts val="2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30000"/>
              </a:lnSpc>
              <a:spcBef>
                <a:spcPts val="2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30000"/>
              </a:lnSpc>
              <a:spcBef>
                <a:spcPts val="2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30000"/>
              </a:lnSpc>
              <a:spcBef>
                <a:spcPts val="2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30000"/>
              </a:lnSpc>
              <a:spcBef>
                <a:spcPts val="2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6" descr="Эн1-облож"/>
          <p:cNvPicPr/>
          <p:nvPr/>
        </p:nvPicPr>
        <p:blipFill>
          <a:blip r:embed="rId1"/>
          <a:stretch/>
        </p:blipFill>
        <p:spPr>
          <a:xfrm>
            <a:off x="3048120" y="3773520"/>
            <a:ext cx="304776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6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3C1F-DA0C-42D2-8568-7611F2654E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Электростимулятор полипрограммный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ЭНИСТИМ-1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394812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533520" y="48769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1676520" y="4343400"/>
            <a:ext cx="5029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Число программ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Форма импульсов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биполярна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лительность, мкс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2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Частота следования, Гц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1  ... 1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мплитуда тока, мА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0  ...   3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лительность посылок, с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0,3  .. 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лительность пауз, с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0,3  ... 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аймер, мин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3; 5; 10; 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итание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4 элемента  х 1,5 В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Масса, кг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0,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304920" y="5029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19" descr="DSCN4420"/>
          <p:cNvPicPr/>
          <p:nvPr/>
        </p:nvPicPr>
        <p:blipFill>
          <a:blip r:embed="rId1"/>
          <a:stretch/>
        </p:blipFill>
        <p:spPr>
          <a:xfrm>
            <a:off x="1523880" y="1523880"/>
            <a:ext cx="2438640" cy="2156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0" descr="DSCN4427"/>
          <p:cNvPicPr/>
          <p:nvPr/>
        </p:nvPicPr>
        <p:blipFill>
          <a:blip r:embed="rId2"/>
          <a:stretch/>
        </p:blipFill>
        <p:spPr>
          <a:xfrm>
            <a:off x="4952880" y="1523880"/>
            <a:ext cx="215928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мтоматическая физиотерап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гнитотерап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азеротерап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лектрообезболи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ханический масса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2T06:53:48Z</dcterms:created>
  <dc:creator>123</dc:creator>
  <dc:description/>
  <dc:language>en-US</dc:language>
  <cp:lastModifiedBy>Голубая Гостиная</cp:lastModifiedBy>
  <dcterms:modified xsi:type="dcterms:W3CDTF">2012-04-22T08:13:50Z</dcterms:modified>
  <cp:revision>2</cp:revision>
  <dc:subject/>
  <dc:title>Презентация PowerPoint</dc:title>
</cp:coreProperties>
</file>