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158E-4266-48B2-B3CC-DC0682B4B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900D3-D904-44AD-8170-9E74188D80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B298-5935-4857-B033-EF3CCF99A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8D522-A0F1-408E-B64C-D0FC20229B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DB4BE-FF5E-41E9-8C96-7E73A5276E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1A65-6F0F-4EBA-9FA0-1D7BA0E56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2726-A5DA-4117-BE54-62B6C5CFD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496E-8FE1-43D2-B454-2C4EA16B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9399-F7AE-411C-B9B1-6FE1DF8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2CC9-E58F-4168-80EF-08B203510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9ABD-CF24-4100-A256-D4EF1C28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BECE-C304-4B8A-B091-40D42CD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8D38-5B6B-445F-8F94-7E5258A8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462B-26D9-4CAA-803F-FCBE193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328464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CC98-6009-4659-9FB4-E70B70C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5583-1ECB-4B4A-8E5F-CB762586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8630-EB56-4207-801C-5EB26579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F3D8-C239-46AF-9A9E-B74295C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9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7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56F2B3-0FAC-43EC-ABBC-F0F281863CF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840" y="2142720"/>
            <a:ext cx="335772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bbfdfd"/>
                </a:solidFill>
                <a:uFillTx/>
                <a:latin typeface="Arial Black"/>
              </a:rPr>
              <a:t>ПРЕДСТАВЛЯЕТ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 Black"/>
              </a:rPr>
              <a:t>25 вебинаров по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оциальному служен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Церкв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 Black"/>
              </a:rPr>
              <a:t>«ЗАЩИТА МАТЕРИНСТВА»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(ЗМ), прошедших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ри Синодальном Отдел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о церковн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лаготворительности 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оциальному служен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осковского Патриарха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(октябрь 2011 - май 201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214880" y="3979800"/>
            <a:ext cx="4643280" cy="2280600"/>
          </a:xfrm>
          <a:prstGeom prst="rect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Он-лайн курс ЗМ разработан для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Социальных работников епарх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Епархиальных    координаторов по З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Начинающих руководителей центров защиты материнства (Ц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Новичков «Движения в защиту жизни» (ДЗЖ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Опытных руководителей и сотрудников ДЗЖ, с целью повышения их квалифи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 КУРСА"/>
          <p:cNvPicPr/>
          <p:nvPr/>
        </p:nvPicPr>
        <p:blipFill>
          <a:blip r:embed="rId1"/>
          <a:stretch/>
        </p:blipFill>
        <p:spPr>
          <a:xfrm>
            <a:off x="4232160" y="431640"/>
            <a:ext cx="4626000" cy="3283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214880" y="4287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УКОВОДИТЕЛЬ КУРСА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Для презентации сайт"/>
          <p:cNvPicPr/>
          <p:nvPr/>
        </p:nvPicPr>
        <p:blipFill>
          <a:blip r:embed="rId1"/>
          <a:stretch/>
        </p:blipFill>
        <p:spPr>
          <a:xfrm>
            <a:off x="4143240" y="857160"/>
            <a:ext cx="4775400" cy="428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42920" y="2185920"/>
            <a:ext cx="34290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Опыт работы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в области ЗМ показал: создающиеся организации ЗМ и епархиальные центры часто обращаются за помощью к ведущим центрам ЗМ, не зная с чего им начинать свою деятельность и желая получить от них пошаговый инструктаж к действия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Выбор направлений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деятельности в области социального служения ЗМ довольно широк (более 300), и качественно проинструктировать новичка по каждому направлению бывает затруднительн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Летом 2011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года этот факт побудил членов Координационного Центра по «Защите Материнства» при СО ЦБиСС РПЦ поручить Клименко Надежде (г.Одесса), координатору ЗМ по Украине 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http://prolife-fest.ru/users/nklimenko/</a:t>
            </a:r>
            <a:r>
              <a:rPr b="0" lang="ru-RU" sz="1000" spc="-1" strike="noStrike">
                <a:solidFill>
                  <a:srgbClr val="22228b"/>
                </a:solidFill>
                <a:latin typeface="Arial Black"/>
              </a:rPr>
              <a:t>,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разработать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 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обучающий курс</a:t>
            </a:r>
            <a:r>
              <a:rPr b="0" lang="ru-RU" sz="1000" spc="-1" strike="noStrike">
                <a:solidFill>
                  <a:srgbClr val="85ffe0"/>
                </a:solidFill>
                <a:latin typeface="Arial Black"/>
              </a:rPr>
              <a:t>,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благодаря которому его участники смогли б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услышать и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увидеть подробные доклады руководителей основных ведущих центров ЗМ с целью передачи опыт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скачать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многочисленные методические материал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задать вопросы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и интерактивно получить на них отве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286160" y="5286240"/>
            <a:ext cx="4572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Комплексно обучить 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«Защите материнства» 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появилась возможность благодаря организации </a:t>
            </a:r>
            <a:r>
              <a:rPr b="0" lang="ru-RU" sz="1000" spc="-1" strike="noStrike">
                <a:solidFill>
                  <a:srgbClr val="2d2db9"/>
                </a:solidFill>
                <a:latin typeface="Arial Black"/>
              </a:rPr>
              <a:t>дистанционных он-лайн вебинаров,</a:t>
            </a:r>
            <a:r>
              <a:rPr b="0" lang="ru-RU" sz="10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а также их видеозаписям, которые в последствии можно просматривать в удобное время необходимое число раз и очным, и заочным участникам обучения, а также вновь создающихся организаций, епархиальных центров З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4214880" y="785880"/>
            <a:ext cx="4572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1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Обучение социальному служению Церкви "Защита семьи, материнства и детства" трёх аудиторий слушателе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1) епархиальных социальных работников и координаторов по З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2) начинающих руководителей центров защиты материнства (ЦЗМ) и новичков "Движения в защиту жизни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3) опытных руководителей и сотрудников ДЗЖ, повышение их квалиф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Оказание помощи в становлении и развитии деятельности епархиальных центров ЗМ, благодаря об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По окончании обучения: написание выпускных дипломных работ подробных социальных проектов по направлениям Защиты Материнства с последующей реализацией в епархиях РП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Задачи в процессе обуч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ередача опыта от ведущих организаций в области З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бучение практическим формам работы в обла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лучение обзора множества направлений З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мощь в выборе направления деятельно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мощь в правильном старт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лучение необходимых методических материалов и маке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буждение к началу деятельности в процессе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бщение и обмен опытом с участниками обучения на форуме кур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ередача рекомендаций по написанию социального дипломного проекта в обла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контроль за написанием дипломных про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 проверка выпуск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14880" y="4287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ЦЕЛИ И ЗАДАЧИ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2920" y="2071800"/>
            <a:ext cx="3571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 Black"/>
              </a:rPr>
              <a:t>ИСТОРИЯ ПРОЕК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Начало обучения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- октябрь 2011 г.,  окончание - май 2012 г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47ffd1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августе-сентябре 2011 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г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. руководителем курса Надеждой Клименко была продумана концепция всего обучения  по «Защите материнства» и запланирована его результативность, проведены поступательные переговоры с потенциальными докладчиками, объявлена программа обучения на сайте фестиваля «ЗА ЖИЗНЬ – 2011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сентябре 2011 г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.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о дате начала обучения были оповещены представители епархий РПЦ, а также участники прошедшего фестиваля и ДЗЖ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85ffe0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За 8 месяцев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в обучении приняли участие 20 центров  России и Украины от Владивостока до Одессы, представителями которых стало </a:t>
            </a: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 Black"/>
              </a:rPr>
              <a:t>25 докладчиков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задачу докладчиков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входило подготовить к вебинару  подробную презентацию о своей деятельности и необходимые материалы для скачивания и дублирования их работ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ходе подготовки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к выступлениям докладчикам оказывалась необходимая консультативная помощь руководителем Курса: при подготовке комплексных презентаций, а также в последующем сопровождении вебинаров и ответов на вопросы участников обуч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курс обучения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также вошли выступления, подготовленные для секции по ЗМ в рамках Рождественских чтений 25 января 2012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14880" y="35712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ДОСТИЖЕНИЯ И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4214880" y="714240"/>
            <a:ext cx="4572000" cy="60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Впервые в истории Церкви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было проведено комплексное дистанционное обучение по «Защите Материнства», охватившее территорию всего С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Курс ЗМ получил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ысокую оценку от нескольких сотен слушателей, в т.ч.- представителей свяще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За время обучения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было проведено 25 различных вебинаров, в ходе которых участники получили знания и навыки по основным направлениям Защиты Матери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Обучение ЗМ состояло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из следующих бло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рганизация епархиальных и приходских центров ЗМ и модели их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равильный старт для дальнейше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рганизация психологического консультирования кризисных подопеч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существление деятельности по основным номинациям   Международного фестиваля «ЗА ЖИЗНЬ»: миссия, свидетельство, просвещение, помощь, творчество в 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 оказание помощи беременным и многодетным семь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По окончании курса ЗМ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 мае 2012г. участники написали проектные дипломные работы по направлениям ЗМ, которые планируют внедрять в своих епархиях. Выпускные проекты могут участвовать и в грантовых конкурс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Благодаря обучению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у слушателей появилась вера в то, что организовать деятельность в защиту жизни и традиционных семейных ценностей необходимо в каждой епархии и это возможно любому желающ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В результате обучения</a:t>
            </a:r>
            <a:r>
              <a:rPr b="0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 епарх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стала развиваться деятельность, спасающая множество жизней нерождённых дет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казывается своевременная помощь многодетным семья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роводится профилактика превенции абортов среди молодого поко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укрепляются семьи, и идёт улучшение демографической ситуации в наш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14200" y="5143680"/>
            <a:ext cx="32148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реумножение опы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родолжение обучения новых участников 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овышение квалификации уже обученных слушат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Открытие епархиальных центров ЗМ во всех епархиях РПЦ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Обучение представителей епархиальных центров Защиты Материнства и помощь в работе по З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500040" y="485784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entury Schoolbook"/>
              </a:rPr>
              <a:t>В ПЕРСПЕКТИ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500040" y="20001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entury Schoolbook"/>
              </a:rPr>
              <a:t>РЕЗУЛЬТАТ В ЦИФ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214200" y="2286000"/>
            <a:ext cx="33577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о количеству слушателей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направление «Защиты материнства» оказалось доминирующим среди других направлений социального служения Церк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Было прислано на проверку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более 50 дипломных проек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ри проверке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было насчитано более 30 участников, уже начавших активную деятельность в процессе обу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10 из них написаны с отличие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о результатам проверки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дипломов сертификаты об успешном написании работы по социальному проектированию «Защиты материнства» получило 122 представителя движения в защиту жизни из 230, выданных в этом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214880" y="3571920"/>
            <a:ext cx="4643280" cy="1500120"/>
          </a:xfrm>
          <a:prstGeom prst="rect">
            <a:avLst/>
          </a:prstGeom>
          <a:solidFill>
            <a:srgbClr val="bb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214880" y="537840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БЛАГОДАРИМ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E:\Documents and Settings\Надежда\Мои документы\АРХИВ всех документов\АРХИВ ЖИЗНЬ\ЖИЗНЬ 2011\ВЕБИНАРЫ по ЗМ Син отд ЦБиСС\6) 09.11.130 НАПРАВЛЕНИЙ (Н.Клименко)\ДЛЯ САЙТА 6\для каталога.JPG"/>
          <p:cNvPicPr/>
          <p:nvPr/>
        </p:nvPicPr>
        <p:blipFill>
          <a:blip r:embed="rId1"/>
          <a:stretch/>
        </p:blipFill>
        <p:spPr>
          <a:xfrm>
            <a:off x="4214880" y="571680"/>
            <a:ext cx="468468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214880" y="58071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ДО НОВЫХ ВСТРЕ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4200" y="2071800"/>
            <a:ext cx="3357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ОДНОЙ ИЗ ОСНОВНЫХ ЦЕЛ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прошедшего он-лайн курса по Защите материн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является проек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«Создание сборника методических пособий по различным направлениям «ЗАЩИТЫ МАТЕРИНСТВА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с привлечением  </a:t>
            </a: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экспертной комиссии</a:t>
            </a: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 для оценки и редакции уже откорректированных стенографий авторских  вебинар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Выпуск методических пособий на основании вебинаров по ЗМ планируется 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Рождественским чтениям 2013 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для распространения их по всем епархиям РПЦ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286160" y="3670200"/>
            <a:ext cx="4500720" cy="130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Познакомиться с записями и материалами курса можно по ссылкам: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prolife-fest.ru/users/dista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rolife-fest.ru/news/7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nform.prolife-fest.ru/store.php?cid=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2:30:17Z</dcterms:created>
  <dc:creator>Надежда</dc:creator>
  <dc:description/>
  <dc:language>en-US</dc:language>
  <cp:lastModifiedBy>Надежда</cp:lastModifiedBy>
  <dcterms:modified xsi:type="dcterms:W3CDTF">2012-10-01T00:52:14Z</dcterms:modified>
  <cp:revision>63</cp:revision>
  <dc:subject/>
  <dc:title>Дистанционный  Курс обучения  «Защита семьи, материнства и детства»</dc:title>
</cp:coreProperties>
</file>