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4E1-7C83-4071-9C16-2963ADCB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D2D-75A2-41DE-AA50-05BC8E9C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234-A105-46C3-83EB-DA63F2BD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1D5-42AB-4A17-B03C-2B06EC93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49B9-A4A6-4439-9208-6DAF2527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CC0C-6DEB-4EC7-AFB7-80E83955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238-4C0A-4108-A795-C10B90E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147F-28D7-417E-AAFB-01753160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FB2-961E-4E25-B845-5952478E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0896-9D93-4815-BFFC-1293DCAF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8902-EF32-46E4-8ECA-D64A28B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254-ED5F-439E-AC85-542C8A45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B85A-08BF-42DF-8044-A989CFE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AF96-EA72-44DE-A6A7-0341410F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EA0-37E2-4146-99D3-2648644F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834C-0350-4D58-A300-95D862B6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8448-2B6E-43ED-A981-B051F604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2115-2729-4B53-8305-C0B58708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9934-49C8-44C5-9AF1-ACCD38EF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6289-3AD1-41EF-9399-57364BA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EE46-5F46-4DCA-88C4-72EE1FD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80A8-22C0-49C9-BBE3-CA5BD13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9B6-6A50-4971-AD1C-2B45AAB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1823-0DBD-4B0E-ACD6-68808850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842E-3024-4212-B9DF-F6904549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E71F-8FE7-4044-9EDB-16B5D9B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14B6-5F2A-4D78-A150-31C3707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9739-057B-4916-A190-0A08A9A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FFE0-9B41-4326-8BA6-F34105B8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D983-A8F5-4371-94AB-4617C995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C008-8980-4799-A091-623BC44A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7862-5F4E-4FAC-8792-265DA88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2BCD-E421-4D4A-8578-0F2B6338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DD4-1476-4525-956E-562D40AE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88B4-18E6-46FB-B4EC-B86A56E2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8379-5174-4235-82C3-BB55B9DE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72D6-7CE3-4B5A-910B-F382C972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A456-B68F-4888-815D-BE9CEEB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77C7-1925-401F-A51F-E5696F7D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64ED-C134-4A9F-9632-1B47AB3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F6CF-C743-45BD-B044-760AFF65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88A9-2D9E-469E-BB2D-B19746BF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37E2-A539-4E65-A37A-F96E522B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EA93-209B-4434-8B84-8ADBEBEF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0E4-4CA2-4528-851A-F18DB43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BEBC-30DE-41B1-91F9-059BBC3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E9C4-E637-4998-95F3-717A247F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C99D3-28DE-4469-97F8-22AB62C0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3AE4-D2DB-4754-9EE9-796D039E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907E-B6B6-4BC1-9D6B-437E7822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E0EE-51E2-4E75-9918-49EE347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35C8-9E21-4BF0-B325-0F7B912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3F942-ADEE-481A-B56B-77845B7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70271-87DE-4D6B-923D-AA786CF7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1DD6-4F05-4D63-B047-0AA270BF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ED3-F326-4EB4-8FEA-D85C8624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57852-28A1-43BF-A40E-373CB8F0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F853-C565-4751-9315-E0EEFC37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B052-BFA5-4B32-A560-CEF5723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5E5F-4C33-4B04-BAE4-B2BB47E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6E1B-5361-4095-8C22-181D0A1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753E5-7E35-4FC3-82B0-1536AEA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CF31-F272-4F6B-83E5-AEA3FACB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B984-14C6-4893-AED1-4AA5E73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7B217-7FF3-466D-A1DF-57AB4797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C171-174B-4F4D-A354-083EBDB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AD3-880D-4386-AFB0-558B996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388D-9DDF-4551-83E4-BAC6827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40F9-CE65-44D2-AC6D-FD6FA008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7F10-368E-4E79-A930-D1DB874E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8174-030A-4944-8CAE-11D9B0F4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9DD8-A597-44C5-AC2E-3C4AADA4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0E20-8231-4260-9481-A1C4971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1D90-053F-46C0-B261-1004C7C2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1B72-E419-43D3-9D59-AED15B4E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E4654-4B7B-48EF-B3DD-386E424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15F2-B387-4C65-8B1E-39BDCDB6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809-EE5B-4EA5-89FE-9196B02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1D80E-2C66-433D-9BD6-90F6E05C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C2D0-A26F-4126-97A0-1762A8D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6698-DC89-447C-9999-3581096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D37AE-0E4C-4097-A2E8-74326B20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5AEC-BC5A-4298-9056-A05469C0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0F9-7992-4E16-92E4-3BAC39A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F1A2-2C5E-41CB-96CD-61EFBE0E9D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3159-B098-4B7C-9D84-81A8E6CA8BA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EFC-115F-4367-82A4-676FB7458D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116C-09D1-42AA-B17F-A360281658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FBF7-11FC-4EF3-BEE8-BA7B087FAB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7738-F0C8-4525-8B66-B9384D7DC2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322-DFFD-4F7C-B4AC-4DEBD86D9C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ая соединительная линия 6"/>
          <p:cNvSpPr/>
          <p:nvPr/>
        </p:nvSpPr>
        <p:spPr>
          <a:xfrm>
            <a:off x="1714680" y="857160"/>
            <a:ext cx="671508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1000080" y="0"/>
            <a:ext cx="8143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</a:t>
            </a:r>
            <a:r>
              <a:rPr b="0" lang="en-US" sz="2000" spc="-1" strike="noStrike">
                <a:solidFill>
                  <a:srgbClr val="3366ff"/>
                </a:solidFill>
                <a:latin typeface="Arno Pro Smbd Captio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Заголовок 1"/>
          <p:cNvSpPr/>
          <p:nvPr/>
        </p:nvSpPr>
        <p:spPr>
          <a:xfrm>
            <a:off x="1187280" y="2349360"/>
            <a:ext cx="77806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Вебина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рганизация и модель проведения предабортного консультирования беременных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»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  <a:ea typeface="Arial"/>
              </a:rPr>
              <a:t>Часть 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Заголовок 1"/>
          <p:cNvSpPr/>
          <p:nvPr/>
        </p:nvSpPr>
        <p:spPr>
          <a:xfrm>
            <a:off x="1042920" y="1773360"/>
            <a:ext cx="79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тому, женщина, идя на аборт, находится в неустойчивом эмоциональном состоянии, при котором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лова не имеют столько значения, сколько убеждения консультанта, которые порой передаются без слов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 консультирование в данном случае имеет большее отношение к социальной работе, то есть к тому виду деятельности, качество которого трудно повысить внешними стимулами: заработной платой, престижностью. Во все времена эффективность этой работы напрямую зависела от уровня нравственного развития тех, кто ее осуществлял. Проблема только в том, что намного легче осуществить отбор квалифицированных психологов, «просто хороших» люде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этому приемы и методы нужны и важны, но не в первую очередь.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Неслучайно один из основателей такого вида психологической помощи как телефон доверия, Чад Вара отбирал для работы именно добровольцев, независимо от их профессиональной принадлежности. И затем обучал их «терапии выслушивания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Работа, организованная Чад Варой (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пердупреждение самоубийст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) достаточно близка к той деятельности, которую осуществляют консультанты по предупреждению абортов. Ведь с психоаналитической точки зрения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аборт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– это самоубийство себя в будуще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7272360" cy="1055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Заголовок 1"/>
          <p:cNvSpPr/>
          <p:nvPr/>
        </p:nvSpPr>
        <p:spPr>
          <a:xfrm>
            <a:off x="1042920" y="1774800"/>
            <a:ext cx="7920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 том и в другом случае человек находится в острой критической жизненной ситуации (точнее, субъективно воспринимает ее таковой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, хотя клиенты телефона доверия, как правило, сами принимают решение об обращении к психологу, в отличие от женщин, которые собираются прервать беременность, тем не менее, приемы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«терапии выслушивания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достаточно действенны и в этом случае. Рассмотрим их подробне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яет интерес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направления социально-психологической деятельности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 предотвращению самоубийст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(практики «дружеского участия»), которая предусматривает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широкой сети центров помощи (телефонных, очных, работающих с корреспонденцией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ю образовательных и обучающих программ для добровольцев, супервизию их деятельност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зитивного социального образа служб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благотворительных мероприятий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трудничество с другими центрами помощи (социальными,   медицинскими,   психологическими,   юридическими и т.д.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ми принципам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работы служб являются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конфиденциальность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анонимность обращающихся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максимальная доступнос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Заголовок 1"/>
          <p:cNvSpPr/>
          <p:nvPr/>
        </p:nvSpPr>
        <p:spPr>
          <a:xfrm>
            <a:off x="1042920" y="98100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7956720" cy="2139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1617840" y="4581360"/>
            <a:ext cx="6914880" cy="1705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Заголовок 1"/>
          <p:cNvSpPr/>
          <p:nvPr/>
        </p:nvSpPr>
        <p:spPr>
          <a:xfrm>
            <a:off x="1042920" y="981000"/>
            <a:ext cx="7920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Цель встречи клиента и консультант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взаимопонимание, открытость между собеседниками, особая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атмосфера довери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способствующая диалогу двух уважающих и принимающих друг друга людей; возникновение очищающей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беседы-исповед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Это - довольно редкое явление в обычной жизни, которое предполагает полную погруженность в собеседника, максимальную искренность и честность.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Установление атмосферы понимани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ринятия и поддержки помогает клиенту почувствовать себя более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значимы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придает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увереннос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дает возможность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покойно оцени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вои и чужие поступки,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избавиться от ощущени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заброшенности и изоляции, которое лишает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илы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 делает проблемы субъективно неразрешимы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анные принципы организации и методы оказания психологической поддержки хорошо зарекомендовали себя и могут быть весьма полезны при организации деятельности центров и служб по предотвращению аборт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отношении эффективности деятельности консультанта есть, с одной стороны, четкий, с другой – субъективный критерий: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если психолог может помочь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ебе самому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, хорошо осознает свои достоинства и недостатки, то он, в той или иной мере,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может помочь и другому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Не научным, но «работающим» критерием «профпригодности» консультанта является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восстановление им личного благочестия, то есть, направление своей жизни в добрую сторону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Если внутренняя и даже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личная жизнь самого психолога несостоятельна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, то велика вероятность того, что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«оба упадут в яму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1042920" y="981000"/>
            <a:ext cx="792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6408720" cy="4813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Заголовок 1"/>
          <p:cNvSpPr/>
          <p:nvPr/>
        </p:nvSpPr>
        <p:spPr>
          <a:xfrm>
            <a:off x="1042920" y="907920"/>
            <a:ext cx="7920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Большое влияние на результат консультативных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встреч будет оказывать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установка, общее отношение к женщин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собирающейся прерывать беременность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христианской психологии есть такое понятие, как благоговение в отношении к другому человеку, с которым происходит встреча, даже к самому «последнему» человеку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дин святой сказал, что благоговение состоит из двух начал: страха и радости.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траха, опасения, как бы не навредить душе человека, ведь он имеет свой жизненный путь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этому сначала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 навреди»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а потом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помоги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ричем, в случае консультации по проблеме абортов,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 навреди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тносится к двум человеческим душам. Действительно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ужно уметь любить их обоих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Радость оттого, что у консультанта есть шанс, пусть небольшой, помочь родиться новому малышу, и вырасти как личности, как человеку его мам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В процессе работы консультативных пунктов по предупреждению абортов целесообразно организовывать </a:t>
            </a: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регулярные совместные встречи всех консультантов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Цели этих встреч –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руководителем обратной связи о проводимой работе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точнение стратегии и тактики работы,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чинающих консультантов,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реагирование консультантами чувств и эмоций, связанных с проводимой работо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Заголовок 1"/>
          <p:cNvSpPr/>
          <p:nvPr/>
        </p:nvSpPr>
        <p:spPr>
          <a:xfrm>
            <a:off x="1042920" y="907920"/>
            <a:ext cx="7920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6716880" cy="33811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771640" y="1989000"/>
            <a:ext cx="4464360" cy="911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Заголовок 1"/>
          <p:cNvSpPr/>
          <p:nvPr/>
        </p:nvSpPr>
        <p:spPr>
          <a:xfrm>
            <a:off x="1042920" y="1773360"/>
            <a:ext cx="79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ело в том, что такая работа необычна даже для практикующих психологов. Тем более для человека, который не имеет специальной профессиональной подготовки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 ходе консультативных бесед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у самого консультанта возникают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ильные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трицательные чувств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вины (если не удается отговорить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бессилия (когда клиент оказывает просто более сильным оппонентом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агрессии (например, при агрессивной позиции клиента) и т.д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эти чувства не прорабатываются, то постепенно они будут накапливаться, переходить в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депрессивное состояние и снижать качество работы консультант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то будет прорабатывать чувства – или приглашенный специалист, или сама группа консультантов решает организатор работы. Необходимо только учитывать, что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без ведущего эти встречи будут менее эффективны в лучшем случае, а в худшем атмосфера между самими консультантами будет все более накалятьс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14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Организатор должен отслеживать, какой позиции придерживается каждый консультант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Ведь можно отговаривать от абортов, рекламируя контрацепцию. На этих же встречах обсуждаются сложные моменты консультаций,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что отвечать на вопрос женщины: </a:t>
            </a: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«Я не могу иметь 5 детей, но как же быть, если и контрацепция вредна?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совместных встреч начинающие консультанты получают для себя много информации, непосредственно помогающей им в данной работ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Заголовок 1"/>
          <p:cNvSpPr/>
          <p:nvPr/>
        </p:nvSpPr>
        <p:spPr>
          <a:xfrm>
            <a:off x="1042920" y="1052640"/>
            <a:ext cx="7920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- фактор, снижающий эффективность деятельности консульта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1042920" y="2492280"/>
            <a:ext cx="7920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-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консультантов по предупреждению абортов – достаточно аффективно нагруженная, причем связана в основном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с отрицательными эмоциям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суметь противостоять закрытой позиции клиента, который зачастую не хочет, чтобы ему «лезли в душу». К тому же консультация проводится за несколько дней или даже часов до аборта, когда крайне трудно изменить решение клиента.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и любых усилиях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все же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невелик процент тех женщин, которые меняют свое решение и оставляют ребенка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10 - 20%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Эти и другие факторы приводят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к достаточно быстрому профессиональному выгоранию консультанта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потере им уверенности в собственной профессиональной компетентно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и даже в верности того дела, которым он занимаетс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Известно, что люди с определенными чертами личности больше подвержены этому синдрому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еспокойные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увствительные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мпатичные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лонные к интроверсии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ющие гуманистическую жизненную установку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лонные отождествляться с другим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6119640" cy="5483520"/>
          </a:xfrm>
          <a:prstGeom prst="rect">
            <a:avLst/>
          </a:prstGeom>
          <a:ln w="0">
            <a:noFill/>
          </a:ln>
        </p:spPr>
      </p:pic>
      <p:sp>
        <p:nvSpPr>
          <p:cNvPr id="325" name="Заголовок 1"/>
          <p:cNvSpPr/>
          <p:nvPr/>
        </p:nvSpPr>
        <p:spPr>
          <a:xfrm>
            <a:off x="1908000" y="907920"/>
            <a:ext cx="23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Ведущая вебинар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1042920" y="1341360"/>
            <a:ext cx="7920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При работе с женщинами, идущими на аборт присутствуют многие факторы, активизирующие синдром профессионального выгорани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онотонность работы, особенно если ее смысл кажется сомнительным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кладывание в работу больших личностных ресурсов при недостаточности признания и положительной оценк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гая регламентация времени работы, особенно при нереальных сроках ее исполнения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"немотивированными" клиентами, постоянно сопротивляющимися усилиям консультанта помочь им, и незначительные, трудно ощутимые результаты такой работы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ность и конфликты в профессиональной среде,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ая поддержка со стороны коллег и их излишний критицизм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разрешенные личностные конфликты консультант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1042920" y="981000"/>
            <a:ext cx="7920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При работе с женщинами, идущими на аборт присутствуют многие факторы, активизирующие синдром профессионального выгорани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152360" y="2421000"/>
            <a:ext cx="7956720" cy="34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Заголовок 1"/>
          <p:cNvSpPr/>
          <p:nvPr/>
        </p:nvSpPr>
        <p:spPr>
          <a:xfrm>
            <a:off x="1042920" y="907920"/>
            <a:ext cx="7920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м «орудием труда» консультанта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- является его собственная личность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Для того чтобы оказывать эффективную помощь другим людям,  необходимо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хорошо осознавать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не только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уровень собственной личностной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и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профессиональной зрелости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, но и собственное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психо-эмоциональное состояние.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к установлено многочисленными исследованиями отечественных и зарубежных ученых, работа психолога, консультанта, специалистов различных социальных служб связана с большими нервно-психическими нагрузками.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Предоставляя свою личность клиенту как точку опоры, психолог, незаметно для себя, начинает «профессионально выгорать»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ло в том, что в процессе выполнения любой работы человек испытывает физические и нервно-психические нагрузки.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и небольших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, либо при значительных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разовых нагрузках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- бессознательно включаются естественные механизмы регуля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благодаря чему организм справляется с последствиями нагрузок сам, без сознательного участия человека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сле тяжелой физической (реже – умственной) работы человек может проспать больше обычного и встать отдохнувшим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сли нагрузки значительны и действуют длительное время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для сохранения психосоматического здоровья необходимо бывает сознательно использовать различные приемы и способы, помогающие организму восстановить силы.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Заголовок 1"/>
          <p:cNvSpPr/>
          <p:nvPr/>
        </p:nvSpPr>
        <p:spPr>
          <a:xfrm>
            <a:off x="1042920" y="907920"/>
            <a:ext cx="792000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амым первым шагом в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филактике синдрома профессионального выгорания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должно быть осознание, отслеживание, мониторинг собственного психо-эмоционального состояния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сознание предполагает учет тех профессиональных факторов, которые способствуют появлению симптомов «профессионального сгорания»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Физиологические факторы, связанные с условиями труда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Гиподинамия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Повышенная нагрузка на зрительный, слуховой, голосовой аппараты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Психологические трудности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Контакт, как правило, с клиентами, находящимися в негативном эмоциональном состоянии,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Необходимость быть все время в «форме»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Отсутствие эмоциональной разрядки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Большое количество контактов в течение дня и т.д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 должен осознавать, что при таких особенностях профессиональной деятельности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уровень психо-эмоционального напряжения постепенно накапливаетс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ыражается это в повышенной раздражительности, беспокойстве, повышенной утомляемости и т.п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ри достижении определенного уровня напряженности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организм пытается защитить себ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Это проявляется в осознаваемом или неосознаваемом желании уменьшить нагрузку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уменьшить или формализовать время взаимодействия с клиента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Заголовок 1"/>
          <p:cNvSpPr/>
          <p:nvPr/>
        </p:nvSpPr>
        <p:spPr>
          <a:xfrm>
            <a:off x="1042920" y="83664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Специалисты выделяют 3 основных стадии синдром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профессионального сгора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ервая стади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функциональный уровень: забывание каких-то моментов, сбои в выполнении каких-либо двигательных действий и т.д. Обычно на эти первоначальные симптомы мало кто обращает внимание. В зависимости от характера деятельности, величины нервно-психических нагрузок и личностных особенностей специалиста первая стадия может формироваться в течение трех – пяти лет работ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 второй стадии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наблюдается снижение интереса к работе, потребности в общении, нарастание апатии, появление устойчивых соматических симптомов (нет сил, головные боли, нарушения сна); повышенная раздражительность, которая становится более заметной, чем на первом этапе, и самому человеку, и окружающим. Время формирования данной стадии – 5 – 15 л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Третья стади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собственно личностное выгорание. Характерна полная потеря интереса к работе и к жизни вообще, эмоциональное безразличие, ощущение постоянного отсутствия сил. Человек стремится к уединению. Стадия может формироваться от десяти до двадцати л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Заголовок 1"/>
          <p:cNvSpPr/>
          <p:nvPr/>
        </p:nvSpPr>
        <p:spPr>
          <a:xfrm>
            <a:off x="1042920" y="836640"/>
            <a:ext cx="792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7956720" cy="3584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Заголовок 1"/>
          <p:cNvSpPr/>
          <p:nvPr/>
        </p:nvSpPr>
        <p:spPr>
          <a:xfrm>
            <a:off x="1042920" y="119844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по профилактике синдрома «профессионального выгорания» вслед за осознанием механизма его возникновения идет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мониторинг собственного психо-эмоционального состояния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ложительное действие этого мониторинга основано на том, что человек не может одновременно «прокручивать» отрицательные эмоции и логически оценивать ситуацию: либо одно, либо другое. То есть, начав логический анализ ситуации, человек «выключает» непродуктивные отрицательные эмоции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этому,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для мониторинга рекомендуется по ходу или в конце рабочего дня вести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невник состояния эмоций консультан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необходим также для того, чтобы выявить ранние признаки психо-эмоциональной перегрузки. Некоторые изменения в эмоциональном состоянии являютс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достоверными признаками этой перегрузки или начинающейся манипуля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К числу таких признаков относятс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сбаланс эмоций – противоречивость, амбивалентность, например, сочетание гордости и обиды, радости и недоверия, «когда одновременно смешно и неприятно»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странность» эмоций, например вспышка ярости в момент обсуждения несущественных подробностей плана действий, и т.п.;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зкий всплеск эмоций, который не кажется оправданным объективными характеристиками ситуации. Это самый важный индикатор, который должен быть проанализирован в первую очередь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Заголовок 1"/>
          <p:cNvSpPr/>
          <p:nvPr/>
        </p:nvSpPr>
        <p:spPr>
          <a:xfrm>
            <a:off x="1042920" y="1125360"/>
            <a:ext cx="7920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8066160" cy="3406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Заголовок 1"/>
          <p:cNvSpPr/>
          <p:nvPr/>
        </p:nvSpPr>
        <p:spPr>
          <a:xfrm>
            <a:off x="1042920" y="119844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днако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арадокс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остоит в том, что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при возникновении интенсивной реакции мы забываем о мониторинге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Поэтому тот индикатор, который легче всего заметить, оказывается самым трудным для практического применения. Вместо того, чтобы использовать собственную эмоцию как важный информационный сигнал, мы отдаемся во власть этой эмоци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Альберт Эллис высказывал идею о том, что преувеличенные эмоции являются признаком того, что активизирована иррациональная идея.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Если задеты наши (зачастую неосознаваемые) представления о том, какими должны быть мы сами, окружающие и мир в целом, то возникают неприятные чувства, по интенсивности превосходящие значение произошедшего события. Вместо легкой озабоченности, человек почему-то испытывает панику, вместо сожаления – отчаяние, вместо небольшого раздражения – бешенств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уществует несколько типов иррациональных идей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1. Все должны меня любить и одобрять то, что я дела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Это — общая установка, и она может быть конкретизирована в виде следующих вариантов: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а) все должны уважать меня, потому что я — хороший специалист (хороший человек, начальник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б) если я делаю что-то, значит, я должен быть уверен, что все это одобрят (если нет, значит, я делаю что-то не то или не так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Заголовок 1"/>
          <p:cNvSpPr/>
          <p:nvPr/>
        </p:nvSpPr>
        <p:spPr>
          <a:xfrm>
            <a:off x="1042920" y="119844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Эта установка сознания абсолютно неразумна: ожидать любви и одобрения - значит, подвергаться беспокойству, огорчениям, потому что кто-то не одобряет наши действия.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возможно удовлетворять вкусам одновременно всех людей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То, что нравится одним, раздражает других.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Кроме того, если человек целиком ориентирован на одобрение других людей, он вольно или невольно попадает в зависимость от ни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Из всех видов зависимости этот — наихудший, ведь чувства и эмоции переменчивы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Нет лучшего пути к потере самостоятельности, уверенности в себе, целостности и глубины, чем постоянное желание заслужить любовь окружающих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Лучше оставаться верным самому себе, стремясь к творчеству, продуктивной деятельности, раскрытию своих способностей.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Если человек таков, то любовь или нелюбовь со стороны окружающих не будут оказывать на него существенного влияния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Но если, в силу индивидуальных особенностей, вы зависите от мнения окружающих, то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лучшим выходом для вас будет поиск людей, с которыми вас объединяли бы общие взгляды, убеждения, идеи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Лучше тратить время на общение с друзьями и единомышленниками, чем на бесплодные попытки угодить всем и каждом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2. Человек должен быть прекрасным (идеальным), безупречным во всех отношениях и добиваться успеха в любой област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аспространенный вариант этого ложного убеждения может выглядеть так: если человек не добивается успеха — это нестоящий человек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чевидно, что быть совершенным, безупречным во всем сразу невозможно.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1187280" y="1557360"/>
            <a:ext cx="77806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no Pro Smbd Caption"/>
              </a:rPr>
              <a:t>АНОНС всех тем цикла вебинаров: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иёмы и методы консультирования (4 шага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Модель проведения консульта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оцедуры и техники консультирова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4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облемы, поднимаемые в процессе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5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рганизационные аспекты консультирован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6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офессиональное "выгорание" консультан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7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нализ причин абор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В ходе цикла вебинаров Вы подробно узнает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на сколько важно профессионально подойти к подготовке проведения предабортного консультирования беременных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как не растеряться в процессе консультирования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какие для этого существуют приёмы и модели беседы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необходимо для успешного окончания беседы и принятия правильного решения подопечной с помощью консультан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Заголовок 1"/>
          <p:cNvSpPr/>
          <p:nvPr/>
        </p:nvSpPr>
        <p:spPr>
          <a:xfrm>
            <a:off x="1042920" y="127008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это становится целью, то человек обречен на постоянные терзания по поводу своих неудач, настоящих, прошлых и будущих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Он загоняет себя в психологический тупик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и даже тогда, когда ему удается добиться успеха и окружающие признают его талантливым (даже самым талантливым!) в какой-то области, такой человек постоянно беспокоится из-за того, что завтра, возможно, утратит положение лидера. Конечно, стремление к совершенству необходимо, но история показывает, что многие люди, попавшие в плен завышенных требований к себе, не добились того, чего хотели. Мало кому удается достичь чего-то сверхъестественного, зато неудачи и промахи постигают каждого.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Важно хорошо делать дело, усваивать уроки, которые дает нам жизнь, а остальное — приложитс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3. Ужасно, когда у меня получается не так, как хочетс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этого убеждения: </a:t>
            </a: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«Вечно у меня все не так!» или «Другим все дается легко, а мне ...»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Такого рода взгляды можно охарактеризовать как инфантилизм, то есть сохранение во взрослом возрасте некоторых детских представлений о мире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Это иллюзия, что мир и все, что в нем происходит, должен быть таким, каким он нам нравится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Взрослый человек принимает как должное то, что окружающее никогда точно не соответствует его желаниям.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Важно помнить, что в нашем мире больше сдавшихся, чем побежденны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4. Человек расстраивается из-за внешних событий и об­стоятельств, на которые не может повлиять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сюда вытекает убеждение, что причины наших волнений, переживани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Заголовок 1"/>
          <p:cNvSpPr/>
          <p:nvPr/>
        </p:nvSpPr>
        <p:spPr>
          <a:xfrm>
            <a:off x="1042920" y="119844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ых эмоций лежат вне нас, в объективном мире, который от данного человека не зависит. В действительности же в абсолютном большинстве случаев люди расстраиваются не из-за обстоятельств, а из-за того, как они интерпретируют их для себ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5. Возможная неприятность порождает беспокойство. Пока опасность не пройдет, надо все время ее ожидать и готовиться к не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Беспокойство по поводу возможной неприятности — это не лучший способ борьбы с ней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Во-первых, нет никакого смысла беспокоиться и нервничать без повода. Делая это, вы не избавите себя от неприятности. Более того, беспокойство и волнение не только не предотвратят неприятность, но могут и способствовать ей, сделать из возможной реальной. Во-вторых, часто бывает, что когда ожидаемая неприятность все-таки происходит, человек уже неспособен с ней справиться, ведь все его внутренние силы ушли на переживание во время ее ожидания.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Может случиться и так, что ожидаемая неприятность вообще не произойдет или произойдет, но не с такими последствиями, которые ожидались. А это означает, что силы и нервы потрачены зря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6. Избегать трудностей и ответственности легче (удобнее), чем брать их на себя и справляться с ни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Устранение от ответственности приводит к тому, что в будущем нерешенные проблемы становятся неразрешимыми.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Счастливая жизнь — это не отсутствие проблем, а успешное их решени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Заголовок 1"/>
          <p:cNvSpPr/>
          <p:nvPr/>
        </p:nvSpPr>
        <p:spPr>
          <a:xfrm>
            <a:off x="1042920" y="1052640"/>
            <a:ext cx="79200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Чтобы отследить и осознать действие какой-либо иррациональной идеи или эмоции, не оправданные объективными характеристиками ситуации, необходимо уметь «выходить» из этой ситуации, то есть становиться над ней.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Для этого нужно как бы остановиться и посмотреть на себя, на ситуацию со стороны. Основным препятствием для этого шага является нежелание терять врем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Мы все находимся во власти времени, но время здесь ни при чем. То, что время течет, и то, что мы куда-то спешим – несколько разные вещи.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Спешить – это внутреннее состояние, действовать быстро – внешнее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в отпуске, в деревне идет человек по полю быстро, живо – и никуда не спешит. Иногда несет человек 2 чемодана, сильно спешит, а движется как улитка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Поспешнос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как отмечает А. Сурожский, состоит в том, что человек хочет быть на полвершка перед собой: не там, где он находится, а все время чуть впереди.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На это затрачивается очень много сил: в это время человек не живет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«…человек, которого здесь нет, жить здесь не может, а человек, который здесь – не живет, он спешит.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В настоящем мы не живем практически никогда. Чтобы полностью прожить какой-то момент в жизни, необходимо уметь останавливать время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Заголовок 1"/>
          <p:cNvSpPr/>
          <p:nvPr/>
        </p:nvSpPr>
        <p:spPr>
          <a:xfrm>
            <a:off x="1042920" y="1054080"/>
            <a:ext cx="7920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Чтобы почувствовать, что значит быть над ситуацией, можно попытаться вспомнить экстремальные события в жизни, когда ни будущее, ни прошлое не имеют значения, когда человек осознает огромную ценность настоящего мгновени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Или другой пример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человек едет в машине и любуется природой. Машина сама едет, а человек живет, осознает, что находится перед его взором. Так и в жизни можно ходить, разговаривать, работать - и одновременно осознавать себя. Эта способность осознания настоящего – основа мониторинга эмоционального состояни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Рефлексируя собственное психо-эмоциональное состояние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специалист получает возможность вовремя и эффективно использовать различные способы и методы саморегуляции: связанные с управлением дыханием, тонусом мышц, движением, с воздействием  слова и образа и т.п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дним из существенных факторов, преграждающих усугубление "синдрома сгорания", является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принятие личной ответственности за свою работу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Если консультант из-за неудач или плохого самочувствия занимает пассивную позицию и обвиняет окружающих,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чувство бессилия и безнадежности лишь увеличивается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Заголовок 1"/>
          <p:cNvSpPr/>
          <p:nvPr/>
        </p:nvSpPr>
        <p:spPr>
          <a:xfrm>
            <a:off x="1042920" y="1916280"/>
            <a:ext cx="7920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Ответственность может быть перенесена вовне различными способами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"мне не везет, по­тому что клиенты противятся консультированию и не хотят ничего изменять в жизни"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"во всем виновата организация труда, а все это от меня не зависит"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   </a:t>
            </a:r>
            <a:r>
              <a:rPr b="1" i="1" lang="en-US" sz="1400" spc="-1" strike="noStrike">
                <a:solidFill>
                  <a:srgbClr val="3891a7"/>
                </a:solidFill>
                <a:latin typeface="Arial"/>
                <a:ea typeface="Arial"/>
              </a:rPr>
              <a:t>"у меня слишком много клиентов и мало времени для каждого из них' и т п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акая пассивная позиция консультанта заставляет его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чувствовать себя жертвой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что способствует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озникновению профессионального цинизма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Поэтому консультанту особенно важно испытывать чувство ответственности и уметь работать даже при наличии ограничений и препятствий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мало важно пытаться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рганизовать работу двух консультантов в одном кабинет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чтобы оба могли наблюдать друг за другом и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отражать текущее состояние и чувств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Заголовок 1"/>
          <p:cNvSpPr/>
          <p:nvPr/>
        </p:nvSpPr>
        <p:spPr>
          <a:xfrm>
            <a:off x="1042920" y="981000"/>
            <a:ext cx="79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уществует также немало конкретных способов предупреждени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индрома выгорани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Культивировани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профессиональной деятельности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других интересов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не связанное с консультированием. Целесообразно сочетать работу  с учебой, исследованиями, написанием научных статей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Внесение разнообрази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в свою работу, создание новых проектов и их реализация без ожидания санкционирования  со стороны официальных инстанций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Поддержание своего здоровь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соблюдение режима и питан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Удовлетворяющая социальная жизн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 наличие нескольких друзей (желательно других профессий), в отношениях с которыми существует баланс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Стремлени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к тому, чего хочется, без надежды стать победителем во всех случаях и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умение проигрыва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без ненужных самоуничижения и агрессивност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Способность к самооценк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без упования только на уважение окружающих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Открытость новому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опыту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Умение не спеши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и давать себе достаточно времени для достижения позитивных результатов в работе и жизн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Обдуманные обязательств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например, не следует брать на себя большую ответственность за клиента, чем делает он сам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Чтени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не только профессиональной, но и другой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хорошей литератур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просто для своего удовольствия без ориентации на какую-то пользу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Участие в семинара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конференциях, где предоставляется возможность встретиться с новыми людьми и обменяться опытом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Заголовок 1"/>
          <p:cNvSpPr/>
          <p:nvPr/>
        </p:nvSpPr>
        <p:spPr>
          <a:xfrm>
            <a:off x="1042920" y="1197000"/>
            <a:ext cx="7920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уществует также немало конкретных способов предупреждения синдрому выгорани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12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.  Периодическа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совместная работ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с коллегами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значительно отличающимися профессионально и личностно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13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Участие в работ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профессиональной групп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дающее возможность обсудить возникшие личные проблемы, свя­занные с консультативной работой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14.  Хобби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доставляющее удовольстви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Итак, чтобы избежать "синдрома сгорания"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консультант должен изредка, но обязательно оценивать свою жизнь вообще — живет ли он так, как ему хочется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Если существующая жизнь не удовлетворяет, следует решить, что нужно сделать для положительных сдвигов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Только должным образом заботясь о качестве своей жизни, можно остаться эффективным консультанто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Безусловно, существуют серьезные объективные трудности, но, как известно,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не события оказывают большее влияние на наше психосоматическое здоровье, а то, как мы их воспринимаем и интерпретируем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Ясное осознание происходяще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– начало мудрого отношения к жизни, которое состоит в том, что человек стремится иметь силы изменить, то, что можно изменить; терпение, чтобы принять то, что нельзя изменить и ум, чтобы отличить одно от друг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Заголовок 1"/>
          <p:cNvSpPr/>
          <p:nvPr/>
        </p:nvSpPr>
        <p:spPr>
          <a:xfrm>
            <a:off x="1042920" y="11970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6. Профессиональное выгорание как фактор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снижающий эффективность деятельности консульт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6446880" cy="5056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1042920" y="981000"/>
            <a:ext cx="792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7. Анализ причин абор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Заголовок 1"/>
          <p:cNvSpPr/>
          <p:nvPr/>
        </p:nvSpPr>
        <p:spPr>
          <a:xfrm>
            <a:off x="1042920" y="981000"/>
            <a:ext cx="7920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7. Анализ причин абор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В течение 3-х лет мы проводили качественно-количественный анализ «нежелательной» беременности.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коло 50 % женщин, собирающихся прервать беременность, использовали различные противозачаточные средства. Далее (в порядке частоты) представлены причины, которые называют сами женщин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ые и жилищные проблемы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х перед физическими и моральными трудностями (уже есть ребенок, уже поздно, проблемы со здоровьем, первый ребенок проблемный, никто не помогает и т. п.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благополучные отношения в семье (нет надежного тыла, опасность остаться одной с детьми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вне бра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тказываются от аборт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и встают на учет по беременности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женщины, имеющие поддержку мужа или родителей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Это, как правило, те, которые приняли решение об аборте в состоянии аффекта, не обдумывая глубоко ситуацию, или те, у которых доводы за и против колеблются в пределах 50/50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Женщины, которые заранее настроены агрессивн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по отношению к процессу консультирования, как правило,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делают аборт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несмотря на незначительные объективные причи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Заголовок 1"/>
          <p:cNvSpPr/>
          <p:nvPr/>
        </p:nvSpPr>
        <p:spPr>
          <a:xfrm>
            <a:off x="1116000" y="537372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Тема 5. Организационные аспек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консультир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Заголовок 1"/>
          <p:cNvSpPr/>
          <p:nvPr/>
        </p:nvSpPr>
        <p:spPr>
          <a:xfrm>
            <a:off x="1042920" y="1341360"/>
            <a:ext cx="7920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7. Анализ причин абор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Основной «внутренний» фактор, определяющий решение женщин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сделать аборт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отсутствие моральной поддержки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ильное социальное давление, подталкивающее женщину «не брать на себя обузу»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страх потери жизненного комфорт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ти причины можно разделить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2 основные категории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ешние и внутренни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нешни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– связаны с тем, что люди, которые не хотят ребенка, не предохраняются; или беременность наступает «через» средства контрацепции. В данном случае проявляется такая распространенная установка: </a:t>
            </a:r>
            <a:r>
              <a:rPr b="1" i="1" lang="ru-RU" sz="1400" spc="-1" strike="noStrike">
                <a:solidFill>
                  <a:srgbClr val="3891a7"/>
                </a:solidFill>
                <a:latin typeface="Arial"/>
                <a:ea typeface="Arial"/>
              </a:rPr>
              <a:t>«это не может случиться со мной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Чаще, безусловно, такое отношение встречается у молодых девушек. Оно проявляется не только в том, что не предохраняются, но и в том, что не знают, что нет 100% средства предохранения, несмотря на то, что об этом говорится в аннотации к каждому контрацептиву. На аборт идут женщины со спиралью, регулярно принимающие гормональные таблетки и т.д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 целом, у населения достаточно низкий уровень знаний об особенностях функционирования собственного организма  и методах сохранения здоровья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891a7"/>
                </a:solidFill>
                <a:latin typeface="Arial"/>
                <a:ea typeface="Arial"/>
              </a:rPr>
              <a:t>«Этого не может случиться со мной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- не только русское «авось», это универсальный защитный механизм от непредсказуемости жизни.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Это убеждение на том или ином уровне сознания существует в каждом из нас.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Это вера в собственную неуязвимость, прочность, превосходящую обычные законы человеческой судьб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Заголовок 1"/>
          <p:cNvSpPr/>
          <p:nvPr/>
        </p:nvSpPr>
        <p:spPr>
          <a:xfrm>
            <a:off x="1042920" y="981000"/>
            <a:ext cx="7920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7. Анализ причин абор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В определенный момент каждый из нас сталкивается с каким-либо кризисом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это может быть серьезная болезнь, неудача в карьере или развод; или, в данном случае,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«нежелательная» беременность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 это событие внезапно открывает человеку его обыкновенность и разрушает убеждение в том, что жизнь будет постоянным и бесконечным подъемом, что она легко управляема.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Человек сталкивается с тем, что он должен учитывать последствия своих действий, несмотря на внешние способы «контроля» за жизнь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 факт беременность «через» средства контрацепции поднимает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нутренние причины абортов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 здесь, несмотря на разнообразие доводов, которыми женщина обосновывает свой шаг (материальные и жилищные трудности, необходимость профессионального обучения, карьера и т.д.) выделяется такой основной фактор, как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неуверенность в стабильности отношений с мужчино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ервичной профилактикой абортов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 может быть просветительская деятельность, а также формирование у подростков и молодежи просемейных установок, развитие способности находить оптимальный выход из проблемный ситуаци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Заголовок 1"/>
          <p:cNvSpPr/>
          <p:nvPr/>
        </p:nvSpPr>
        <p:spPr>
          <a:xfrm>
            <a:off x="1042920" y="1341360"/>
            <a:ext cx="792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7. Анализ причин абор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951680" cy="2644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1332000" y="4403880"/>
            <a:ext cx="7416720" cy="2158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"/>
          <p:cNvSpPr/>
          <p:nvPr/>
        </p:nvSpPr>
        <p:spPr>
          <a:xfrm>
            <a:off x="1761840" y="3284640"/>
            <a:ext cx="68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БЛАГОДАРИМ ЗА ВНИМАНИЕ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755640" y="98100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99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</a:t>
            </a: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1. Взаимодействие с медицинским персонал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99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Главная задач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– сформировать у врачей – гинекологов позицию «против аборта». В этом случае врач сам выполняет соответствующую роль: разъясняя женщине необходимость, целесообразность и «здоровьесообразность» рождения ребен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99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Задача миниму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сформировать у медицинского персонала позицию терпеливого отношения, не сопротивления работе психолога – консультанта с женщинами, собирающимися прерывать беременность. Конкретно эта позиция выражается в том, что если сам врач и не отговаривает женщину от этого шага, то хотя бы направляет ее к психолог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116000" y="3986280"/>
            <a:ext cx="7748640" cy="2538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692360" y="4545000"/>
            <a:ext cx="6624720" cy="231300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55640" y="981000"/>
            <a:ext cx="8388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99"/>
                </a:solidFill>
                <a:latin typeface="Arial"/>
                <a:ea typeface="Arial"/>
              </a:rPr>
              <a:t>      </a:t>
            </a: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      </a:t>
            </a: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1. Взаимодействие с медицинским персонал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             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При организации консультативного пункта необходимо учитывать, что поликлиника или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женская консультация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, как организация,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имеет иерархическое строение.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 Если удается убедить в необходимости проводимой работы,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заинтересовать главного врача или заведующую отделением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, то работа будет продвигаться намного быстрее и эффективнее. Так как в полномочии этих лиц –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отследить соотношение количества направленных к психологу и пошедших на аборт женщин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Безусловно, работу в женской консультации следует начинать с </a:t>
            </a:r>
            <a:r>
              <a:rPr b="1" i="1" lang="en-US" sz="14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задачи – максимум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Для этого психолог или руководитель может провести ряд бесед,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во время регулярных совещаний медперсонала. В этих беседах рассматриваются вопросы демографического кризиса, опасности аборта для психического и соматического здоровья женщины, а также духовная основа проводимой рабо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Заголовок 1"/>
          <p:cNvSpPr/>
          <p:nvPr/>
        </p:nvSpPr>
        <p:spPr>
          <a:xfrm>
            <a:off x="1042920" y="1125360"/>
            <a:ext cx="792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1. Взаимодействие с медицинским персонал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99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ff3399"/>
                </a:solidFill>
                <a:latin typeface="Arial"/>
                <a:ea typeface="Arial"/>
              </a:rPr>
              <a:t>Весьма действенны видеоматериалы – и «мягкие» и «жесткие»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ногие врачи, работающие в абортариях, не думают о проводимых операциях как об убийстве живого человека. Яркие образы из фильмов, типа «Безмолвный крик»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позволяют </a:t>
            </a:r>
            <a:r>
              <a:rPr b="1" i="1" lang="ru-RU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затронуть живущую в каждом человеке совесть и жалость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ричем не на уровне слов, которым уже мало доверяют из–за того, что на человека обрушивается лавина информации, не всегда достоверной.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Образ действует сильне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этих выступлениях целесообразно использовать 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материалы книги Ильи Шугаева «Брак, семья, дети», специальных выпусков бесед со старшеклассникам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 т. п.   Врачи слушают эту информацию с большим интересом: она подана в интересной форме и затрагивает вопросы, которые касаются непосредственно каждого. У врачей есть свои дети, которым они желают только «здоровья, счастья и семейного благополучия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психолог в процессе работы ощущает определенное сопротивление (это легко определить по разнице между направленными к нему женщинами и количеством абортов), целесообразно предложить медперсоналу консультативную помощь по интересующим их вопросам. Это можно сделать во время одной из бесед, например, следующим образом: «Кроме консультирования женщин, собирающихся прервать беременность, я консультирую по вопросам: супружеских и детско-родительских отношений» (конечно, в том случае, если специалист действительно обладает необходимой теоретической и практической подготовкой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1042920" y="1052640"/>
            <a:ext cx="7920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1. Взаимодействие с медицинским персоналом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Здесь будет наблюдаться такая тенденция: сначала по вопросам, не связанным с абортами, врачи будут направлять пациентов, знакомых и затем, убедившись в безопасности и эффективности консультаций, будут обращаться сами. В результате, постепенно все женщины, берущие направление на аборт, будут проходить через психолога – консультан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7956720" cy="2357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ая соединительная линия 6"/>
          <p:cNvSpPr/>
          <p:nvPr/>
        </p:nvSpPr>
        <p:spPr>
          <a:xfrm>
            <a:off x="1433520" y="981000"/>
            <a:ext cx="709920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1042920" y="981000"/>
            <a:ext cx="7920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99"/>
                </a:solidFill>
                <a:uFillTx/>
                <a:latin typeface="Arial"/>
                <a:ea typeface="Arial"/>
              </a:rPr>
              <a:t>Тема 5. Организационные аспекты консультир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2. Набор специалистов для консультативной рабо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US" sz="1400" spc="-1" strike="noStrike" u="sng">
                <a:solidFill>
                  <a:srgbClr val="ff3399"/>
                </a:solidFill>
                <a:uFillTx/>
                <a:latin typeface="Arial"/>
                <a:ea typeface="Arial"/>
              </a:rPr>
              <a:t>Здесь возможны две стратегии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крупных города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это целесообразно делать путем тестирования и собеседования с кандидатом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небольших городах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- более ценную информацию можно получить из отзывов людей, знающих кандидата. Дело в том, что для эффективной работы в данном случае не важны регалии и звания, а должна быть или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истинная вера в правоту и необходимость проводимой работ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и подскажет, какие пути и методы выбрать для ее осуществления; или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хорошие профессиональные навыки консультативной работ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Консультирование женщин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, собирающихся прервать беременность, может осуществлять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 только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специалист – психолог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Профессиональные знания в данном случае немаловажны, но они не являются основными. Многие практикующие консультанты и психотерапевты отмечают, что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огромную роль в эффективности их работы играет сама личность консультанта. Ее вклад в успех –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70 – 75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 %; и только </a:t>
            </a:r>
            <a:r>
              <a:rPr b="1" i="1" lang="en-US" sz="1400" spc="-1" strike="noStrike" u="sng">
                <a:solidFill>
                  <a:srgbClr val="6600ff"/>
                </a:solidFill>
                <a:uFillTx/>
                <a:latin typeface="Arial"/>
                <a:ea typeface="Arial"/>
              </a:rPr>
              <a:t>20 – 25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% вклада – это знание техник и приемов консультирования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Такое распределение, безусловно, субъективно. Тем не менее, в работе с женщинами, идущими на аборт, эта закономерность (большая роль личности консультанта) проявляется четк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 первую очередь – в плане простроенной системы ценностей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Если консультант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аже немного сомневается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в том, что аборт – это зло, большее зло, нежели другой выход из ситуации клиента, то никакие техники не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могут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Мы впитываем от другого человека именно его взгляды и убеждения, а не то, что он нам говорит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1258920" y="115920"/>
            <a:ext cx="7345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Arno Pro Smbd Caption"/>
              </a:rPr>
              <a:t>Дистанционный курс по «Защите Материнства»</a:t>
            </a: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no Pro Smbd Captio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Вебинар «Организация и модель проведения предабортного консультирования беременных</a:t>
            </a:r>
            <a:r>
              <a:rPr b="0" lang="en-US" sz="1800" spc="-1" strike="noStrike">
                <a:solidFill>
                  <a:srgbClr val="c00000"/>
                </a:solidFill>
                <a:latin typeface="Arno Pro Smbd Caption"/>
              </a:rPr>
              <a:t>»</a:t>
            </a:r>
            <a:r>
              <a:rPr b="0" lang="ru-RU" sz="1800" spc="-1" strike="noStrike">
                <a:solidFill>
                  <a:srgbClr val="c00000"/>
                </a:solidFill>
                <a:latin typeface="Arno Pro Smbd Caption"/>
              </a:rPr>
              <a:t> Часть 4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одзаголовок 2"/>
          <p:cNvSpPr/>
          <p:nvPr/>
        </p:nvSpPr>
        <p:spPr>
          <a:xfrm rot="16200000">
            <a:off x="-2799360" y="3272400"/>
            <a:ext cx="674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no Pro"/>
              </a:rPr>
              <a:t>Вебинар  </a:t>
            </a:r>
            <a:r>
              <a:rPr b="1" lang="ru-RU" sz="1600" spc="-1" strike="noStrike">
                <a:solidFill>
                  <a:srgbClr val="ff0000"/>
                </a:solidFill>
                <a:latin typeface="Arno Pro"/>
              </a:rPr>
              <a:t>«ПРЕДАБОРТНОЕ  КОНСУЛЬТИРОВАНИЕ» Часть 4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23:45:11Z</dcterms:created>
  <dc:creator>Надежда</dc:creator>
  <dc:description/>
  <dc:language>en-US</dc:language>
  <cp:lastModifiedBy>Клименко</cp:lastModifiedBy>
  <dcterms:modified xsi:type="dcterms:W3CDTF">2013-05-30T06:59:34Z</dcterms:modified>
  <cp:revision>156</cp:revision>
  <dc:subject/>
  <dc:title>Создание и организация работы выставки «Молчаливая революция»</dc:title>
</cp:coreProperties>
</file>