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FB9-30DE-4271-B8BD-2915712E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9FB-B83B-42B0-B165-093A7C83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618-138B-4693-B7AB-5666D947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A78-AF18-4669-9131-86E8DA79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D03-7E3B-495E-999B-08D244A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49E-A444-4445-9DD6-F67488A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78F-612B-4572-A323-7E6D33C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6D3-0827-44B5-B59B-5757888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1FB-D8D0-48C0-9DCF-86C410C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3E6-90A6-45C6-A451-61A7213F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92D-1390-4B3B-AB48-C893C4E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BFF-FA06-4DDD-ADE0-4E12C98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A0FB-33A9-4287-8E47-EF31F485B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-54144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-246240" y="0"/>
            <a:ext cx="939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49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-34920"/>
            <a:ext cx="942984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05:54:29Z</dcterms:created>
  <dc:creator>Pelikan</dc:creator>
  <dc:description/>
  <dc:language>en-US</dc:language>
  <cp:lastModifiedBy>Клименко</cp:lastModifiedBy>
  <dcterms:modified xsi:type="dcterms:W3CDTF">2013-03-28T03:52:25Z</dcterms:modified>
  <cp:revision>3</cp:revision>
  <dc:subject/>
  <dc:title>Презентация PowerPoint</dc:title>
</cp:coreProperties>
</file>