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EBB-B57D-4D30-804A-807FD69A9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0CA2-F914-49E1-9D92-50D10EB73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69D-1C32-4F89-BAB3-67672AC4B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687-4CE3-4923-AE85-83CC1A37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20C-0385-4EC6-8B78-611AC916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B53-A604-4741-A04C-44540574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3C7-CE51-4196-8482-BC0B84A4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9F5-0064-4404-916E-A98D121F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AA9-2B60-4D87-B8C3-0FC706FB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B936-1561-4515-88B7-5A6EBAD6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993-8F93-45A1-9EE3-4E02F430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51F-8378-49C2-9BDE-C8048946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C455-E57A-43F7-9B74-214EE11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73C4-646B-40AC-8EE3-27CCE79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5D1-4104-48FF-87AE-A62E9AA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687-2017-45E6-8AAA-DDB7040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B324-2073-4DFC-816E-51327AC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489B-8570-49CB-AA18-E923D5D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5F93-8441-4903-82D3-92E26719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E0A-2578-400D-9995-128AB1BF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8222-F08E-491B-848F-1618FAAF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E333-9AE3-4A87-B178-5CD9451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C2EE-6F26-43E6-9B77-99FE167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B078-C721-4F6A-A9C4-56A853B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57E5-0FFF-4D43-BC07-D94CCA7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C5C-4DDF-4109-9C1F-905A7C0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7611-D095-4608-B62F-ABCFA45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5D08-8E40-4DBF-8420-593AC280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2B2C-BB25-4506-97D9-46F9FA7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D739D-5A83-48D6-998E-F384569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E207-9E5C-4515-B29D-11FD55C8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092E-2F04-40E2-BAEB-393F6498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E48F-8F43-4260-966C-608DB9A1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A8D-DE39-40D8-A2A7-4EB17FCC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D03-FD5A-47B5-ADB4-A92BC749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F59-F04E-4EEA-B568-9348DB66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F3B-E274-4E26-B6A0-9C3E440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4E7-E35E-4BED-822A-264C19C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158-4ED8-4230-B3B5-6756807C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F567-C43A-4B93-BD84-433C3275385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7BD-98F3-463A-B81F-55CE2BB3A46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"/>
          <p:cNvPicPr/>
          <p:nvPr/>
        </p:nvPicPr>
        <p:blipFill>
          <a:blip r:embed="rId3"/>
          <a:stretch/>
        </p:blipFill>
        <p:spPr>
          <a:xfrm>
            <a:off x="108000" y="0"/>
            <a:ext cx="792000" cy="752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56D-1067-438E-AFBC-46C3546CEE8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2204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ЦЕНТР ГУМАНИТАРНОЙ ПОМОЩ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ОДАЛЬНОГО ОТДЕЛА ПО ЦЕРКОВНОЙ БЛАГОТВОРИТЕЛЬНОСТИ И СОЦИАЛЬНОМУ СЛУЖЕНИ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ССКОЙ ПРАВОСЛАВНОЙ ЦЕРКВ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ОСКОВСКОГО ПАТРИАРХАТА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240" y="1874160"/>
            <a:ext cx="104760" cy="6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4643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900000" y="1268280"/>
            <a:ext cx="7500960" cy="44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ш ад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л. Дубнинская, д.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rmiloserdiya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403280" y="2708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БЛАГОДАР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4" name="Диаграмма 2"/>
          <p:cNvGraphicFramePr/>
          <p:nvPr/>
        </p:nvGraphicFramePr>
        <p:xfrm>
          <a:off x="800280" y="965160"/>
          <a:ext cx="7659360" cy="51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65160"/>
                    <a:ext cx="7659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68360" y="1268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Благотворительность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36720" y="621504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: Британский благотворительный фон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611280" y="2328840"/>
            <a:ext cx="81518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н делают благотворительные пожер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ются волонтёрской р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%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нуждающи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1" name="Схема 2" descr=""/>
          <p:cNvPicPr/>
          <p:nvPr/>
        </p:nvPicPr>
        <p:blipFill>
          <a:blip r:embed="rId1"/>
          <a:stretch/>
        </p:blipFill>
        <p:spPr>
          <a:xfrm>
            <a:off x="476280" y="1316160"/>
            <a:ext cx="8131320" cy="5243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214720" y="785880"/>
            <a:ext cx="542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а работы Цен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4" name="Схема 2" descr=""/>
          <p:cNvPicPr/>
          <p:nvPr/>
        </p:nvPicPr>
        <p:blipFill>
          <a:blip r:embed="rId1"/>
          <a:stretch/>
        </p:blipFill>
        <p:spPr>
          <a:xfrm>
            <a:off x="622440" y="1633680"/>
            <a:ext cx="8235720" cy="4979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1143000" y="3857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golian Baiti"/>
              </a:rPr>
              <a:t>Тверская и Каш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643040" y="928800"/>
            <a:ext cx="65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МОЩЬ РЕГИОНА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Диаграмма 2" descr=""/>
          <p:cNvPicPr/>
          <p:nvPr/>
        </p:nvPicPr>
        <p:blipFill>
          <a:blip r:embed="rId1"/>
          <a:stretch/>
        </p:blipFill>
        <p:spPr>
          <a:xfrm>
            <a:off x="1285920" y="1573200"/>
            <a:ext cx="7059600" cy="44625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1187280" y="105264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МОЩЬ ЧАСТНЫМ ЛИ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Схема 2" descr=""/>
          <p:cNvPicPr/>
          <p:nvPr/>
        </p:nvPicPr>
        <p:blipFill>
          <a:blip r:embed="rId1"/>
          <a:stretch/>
        </p:blipFill>
        <p:spPr>
          <a:xfrm>
            <a:off x="139680" y="1450800"/>
            <a:ext cx="8265960" cy="52311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428840" y="85716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ЕМ МЫ МОЖЕМ 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4" name="Схема 2" descr=""/>
          <p:cNvPicPr/>
          <p:nvPr/>
        </p:nvPicPr>
        <p:blipFill>
          <a:blip r:embed="rId1"/>
          <a:stretch/>
        </p:blipFill>
        <p:spPr>
          <a:xfrm>
            <a:off x="907920" y="1633680"/>
            <a:ext cx="7785360" cy="42494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2700360" y="1125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ШИ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717480"/>
          </a:xfrm>
          <a:prstGeom prst="rect">
            <a:avLst/>
          </a:prstGeom>
          <a:gradFill rotWithShape="0">
            <a:gsLst>
              <a:gs pos="0">
                <a:srgbClr val="a2aedd"/>
              </a:gs>
              <a:gs pos="100000">
                <a:srgbClr val="e3e6f3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5897"/>
                </a:solidFill>
                <a:latin typeface="Times New Roman"/>
              </a:rPr>
              <a:t>Центр гуманитарной помощи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Схема 3" descr=""/>
          <p:cNvPicPr/>
          <p:nvPr/>
        </p:nvPicPr>
        <p:blipFill>
          <a:blip r:embed="rId1"/>
          <a:stretch/>
        </p:blipFill>
        <p:spPr>
          <a:xfrm>
            <a:off x="1341360" y="1852560"/>
            <a:ext cx="6113520" cy="4041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843280" y="112536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АШИ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8:15:56Z</dcterms:created>
  <dc:creator>studenikina</dc:creator>
  <dc:description/>
  <dc:language>en-US</dc:language>
  <cp:lastModifiedBy>Маша</cp:lastModifiedBy>
  <dcterms:modified xsi:type="dcterms:W3CDTF">2011-07-07T22:55:44Z</dcterms:modified>
  <cp:revision>115</cp:revision>
  <dc:subject/>
  <dc:title>Проблемы льгот и преференций по неналоговым платежам и нормативная правовая база их предоставления</dc:title>
</cp:coreProperties>
</file>